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A62-91AE-4B6A-9EE2-5B9574CA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576-DC81-43DF-874F-B6430990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B92-9825-483E-9D25-1E55C56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A84-AF0E-480A-A349-C600F82A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611-D55F-448E-A38C-E17D1CF0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823-C9BC-4981-BBE5-3A7FF65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293F-B3C9-4818-B3CC-E8F71DA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ABCC-31EA-49C0-AA6E-9E7F720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D682-9396-484F-B804-54970E9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C28E-6A39-4C02-975F-BEECB04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AE10-AF84-4BFC-8A85-7FD8DDA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E97-7213-4D09-953E-1AD57E9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C9E-30D0-4A4C-B7FB-1D37748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983B-BCFB-4540-88FC-F8A012F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95C-3B16-4A9E-8277-8DA22E4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C91-C821-4BFB-B8ED-5A1BD56F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C8B4-CB4F-43FB-993D-CD1DC20D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23E59-F53E-4796-8EFF-2E2A10F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A35FB-4664-4755-BB51-30BF9E8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C608E-47AA-492B-8EBA-837CB4D0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204A2-3382-49D5-A41A-430407C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5DCC5-13BF-4D67-8D71-D8D357B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17C-9248-479E-8B55-112F4DDC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4405A-CE89-4CB3-9864-15656EF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04D24-E912-4692-8703-18580AF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BC283-342F-4644-842A-0AFD841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966CB-DF64-4ED3-B508-4705671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09F4A-94AA-4BB6-B018-F288A98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5511C-5EEB-4620-8617-2F5FA8B8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FEC7B-2C09-4F89-905D-88221EE9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2AE3D-6955-46D8-B4DF-DAF558F9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A2212-EEC7-46E1-A088-99A40300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FBEE8-8415-4409-A0DF-27E5C9A0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244-9891-4FE6-9DEE-ABAFEF1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73C11-1471-4DEA-81AA-34B04830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9A42C-430B-42B1-BE12-5DF99F3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970AE-C146-4676-BA66-4A6F278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8C0BE-8337-49F2-8780-187375E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935D7-082D-4696-B08A-33E4F39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3C394-13B3-472B-A157-EA392F1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7FEA6-3AE6-4BFB-BE3E-A26F413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915895-317A-4557-B6F1-49E1FD07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62B75-62D6-4913-95FC-BCECA60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42C84-25A8-4B55-B888-8E0A9273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12C-253A-402C-B409-FD68273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709BC-39B8-4725-A37F-EEE07FEF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938D3-217A-42C4-9020-DCB14DFD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197F7-02A7-4E4D-8D11-91B2B63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CF106-3876-40BE-9BBB-9FE5DE2B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BFFAA-9B5D-4453-8656-9AC6750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31A77-8535-4D86-9798-57C62E0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47787-4803-4507-A43F-FD9FD677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CDA85-A3B4-4E89-A8B6-314D9A7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9F0A1-80BC-4038-B7E5-F545108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13CFA-D516-477E-951F-71A0BF6B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C89-7B1A-4B4E-AC42-2C7B4173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0D157-EF14-419C-B4C5-DFDC85BE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099FC-0134-4597-BA01-0431AD86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ACF1-CC05-4748-8C80-A993FEE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4545-F75D-4A00-9D6F-2D6FAB1D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C381-3314-438C-AFDE-92441554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AE17-36B6-47A4-ADA4-3ACF1793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5834-7A90-4DFB-8B8E-1A444916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2CFC-4718-4C3C-BD01-7FE5961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C6F5-BEDB-4879-8B04-7DA2231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2E74-F6E9-4682-9F06-87E44B7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E29-1CD8-4501-8B4F-1DCB4FDD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7FC2-EF4D-4D4A-B6F9-97F71E7A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B92E-2193-41BC-964B-2982C47A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EB9A-E6E7-4125-ABB6-F10B8F4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31A50-5FB2-4B2A-9FC8-C15A7887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302B0-3AC1-4503-BFAF-816FA885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83BE2-75CA-4C29-B353-B65B1642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0005F-E19A-4237-8224-A8CC9CB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64686-6CD5-4779-B0FC-89C3158A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261C4-5D80-498C-96F1-A564F8F3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829A7-7036-4265-8D6A-1457AA95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020-3F80-4877-A017-4B56115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40C8C-4C73-4058-A9DF-0B661EA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28680-210B-4176-9949-2EFB1B2C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7288E-D58E-4D29-ABF8-16DE300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16D06-1F74-444C-8E3C-0EF28348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CD5EE-F63F-4482-9864-F711445C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B09C-2BD8-4366-A9F0-9C10F26A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B93EE-06B5-4E65-A0CA-6C5B9120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5FB33-DBDF-4A21-ACA1-1F5F4E4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18ED-ECAD-4C56-9955-1DE7BBB5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0316-A9B5-49BC-9597-67B5CD0E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9DA-7617-44C4-809B-5C2CF69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F46D9-072D-42D3-8FDA-B5B9C98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D601-FCE4-46DB-BA98-F51C009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43C3D-0270-4EE1-AE4B-3C42479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99362-B644-41A9-8FA6-8A48FFD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F454-D04F-4361-85CE-F218063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F957-751B-4C78-A657-1C2D9D20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228DA-EAB6-4255-B3F7-2863B185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732-07B1-4B8F-83AD-6378CB8CB9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9FE3-352A-4BB7-8791-926EE85B9A1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780-24B8-4FF7-84B7-E6A546057D6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783-FF8E-4BED-AD30-183FB6AACD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9B8-C60D-4FFB-8A39-C9E0DDA9FE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5530-B46E-4082-A430-07D67C79DCA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2EB1-F5A7-486D-B0EC-AAF1306FD5C9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075E-DB3C-43DF-B000-9701E546BF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МПЕТЕНЦИИ УЧИТЕЛЯ И ЕГО КОМПЕТЕНТНОСТЬ</a:t>
            </a:r>
            <a:endParaRPr b="0" lang="en-US" sz="7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Августовские ММО  учителей начальных классов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МО Кувандыкский район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2009-2010 учебный год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2876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омпетенции уч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зовая компетентность учителя заключается в умении организовать такую образовательную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ивающую сред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торой становится возможным достижение образовательных результатов ребенка, сформулированных как ключевые компетенции. Уметь организовать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ть идеи, высказывать разнообразные точки зрения. Чтобы оно мотивировало учащихся на более высокие достижения и интеллектуальный рост. Можно выделить те характеристики ситуаций, которые должен уметь организовать любой учитель с целью создания в классе «развивающей сред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образовательных ситуаций, которые должен уметь организовать любой учитель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с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лью создания в классе «развивающей ср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я учащихся на реализацию той или иной работы,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, мотивированная учебная работа учащегося, деятельность (самостоятельное осуществление разных видов работы, в процессе которой происходит формирование умений, понятий, представлений поиск нужной информации, проектирование и реализация своей деятельности, осознанность цели работы и ответственность за результ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учащимся самостоятельного выбора (темы, целей, уровня сложности задания, форм и способов работы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групповой проектной работы учащихся (определение тем и проблем, распределение обязанностей, планирование, дискуссия, оценка и рефлексивное обсуждение результат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детей в различных формах диску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нятий и организация на их основе свои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оценивания, которая позволяет и помогает учащемуся планировать свои будущие учебные результаты, самому оценивать уровень их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57120" y="0"/>
            <a:ext cx="842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можные действия учите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авленные на создание развив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ощрять за попытки что-то сдел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заинтересованность в успехе учащихся, связанном с достижением поставлен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постановке трудных, но реалистич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выражению своей точки зрения, отличной от точки зре­ния окружающ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опробованию других способов мышления и поведе­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ать учащихся в разные виды деятельности, развивающие у них различные спосо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разные формы мотивации, позволяющие включать в мо­тивированную деятельность разных учащихся и поддерживать их актив­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строить картину мира на основе своего понимания и куль­турных образ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проявления инициативы на основе собствен­ных предст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не бояться высказывать свое понимание проблемы. Особенно в тех случаях, когда оно расходится с пониманием больши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задавать вопросы и высказывать предло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выслушивать и стараться понять мнение других, но соблюдать право не соглашаться с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ить понимать других людей, имеющих иные ценности, интересы и способ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пределять свою позицию относительно обсуждаемой проблемы и свою роль в групповой рабо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водить до полного понимания учащимися критериев оценки результатов их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существлять самооценку своей деятельности и ее результатов по известным критер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работать в группе, понимая, в чем состоит конечный результат, при выполнении своей части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, что лежит в основе эффективной работы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брать на себя ответственность за конечный резуль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находить место в коллективной деятельности сообразно своим интересам и способност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иться с учениками своими мыслями, чувствами, ожиданиями относительно обсуждаемой проблемы, темы или конкретной ситуации их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ученикам, как можно самостоятельно учиться и придумывать что-то нов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оддерживать учащихся, когда они делают ошибки, и помогать справлятьс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относительность любого знания и его связь с ценностями, целями и способами мышления тех, кто их пород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учащимся, что осознание того, что я чего-то «не знаю», «не умею» или «не понимаю», не только не стыдно, по является первым шагом к «знаю», «умею» и «понима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е компетенции современного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учиться вместе с учениками, самостоятельно закрывая свои «образовательные дыр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мотивировать учащихся, включая их в разнообразные виды деятельности, позволяющие наработать им требуемые компетен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004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исследовательским мышлением, умея организовать исследо­вательскую работу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существлять рефлексию своей деятельности и своего поведе­ния и уметь организовать ее у учащихся в процессе учебн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рганизовать понятийную работу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, принимая то, что собственная точка зрения может быть также подвергнута сомнению и кри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компьютерными технологиями и использовать их в учебном проце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методы, способы и технолог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ются все возможные методы, способы и технологии, позволяющие достигать поставленных целей. Среди них можно отметить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хнологию «критического мышления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ектно-исследовательский мето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рганизацию разнообразных форм диалога и дискусс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оды формирования понят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2960" y="500040"/>
            <a:ext cx="80438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63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ктуальность внедрения компетентностного подхода и российскую школу становится все более очевидной. На смену ЗУНам приходя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надпредметные образовательные результаты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Однако для того, чтобы они действительно стали предметом инновации для массовой школы, необходимо, чтобы этой идеей прониклись в первую очередь учителя. Ибо учитель не может развивать те компетенции, которыми не владее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 indent="633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ущественные перемены в образовании невозможны без кардинальных изменений профессиональног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сознания учителя. Это предполагает существен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бразования в системе воспроизводства педагогических кадров и изменения отношения со стороны общества к учительскому сослов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жде должна быть разработана государственная политика в отношении выращивания новой генерации учителей с иным сознанием, иными ценностями и профессиональными компетенциями, направленная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 создание сообщества учителей в качестве новой общественной эли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5750"/>
                </a:solidFill>
                <a:latin typeface="Calibri"/>
              </a:rPr>
              <a:t>Чему противостоит компетентностный подход в образован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Традиционному предметному репродуктивному «обучению», в основу которого заложена идея трансляции и усвоения знаний (информаци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Селективной, двухуровневой отметочной системе оцени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Принудительным формам организации учебных занятий, сходным с конвейерным способом организации труда </a:t>
            </a:r>
            <a:r>
              <a:rPr b="1" lang="en-US" sz="2700" spc="-1" strike="noStrike">
                <a:solidFill>
                  <a:srgbClr val="3a5750"/>
                </a:solidFill>
                <a:latin typeface="Tw Cen MT"/>
              </a:rPr>
              <a:t>XIX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ртикальной, иерархически организованной системе административного руково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мпетентностный подход в образован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ывается на следующ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ование для жизни, для успешной социализации в обществе и личностн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вание для обеспечения возможности учащемуся самому планировать свои образовательные результаты и совершенствовать их в процессе постоянной самооцен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ные формы организации самостоятельной, осмысленной деятельности учащихся на основе собственной мотивации и ответствен­ности за результа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чная система управления, делегирование полномочий, привле­чение родителей, учащихся и людей «извне» к управлению ОУ и оценке его деятель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выделить следующ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уппы надпредметных образовательных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результатов, то есть ключевых компетенц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Коммуникативные (понимание текстов, работа с информацией, выступление, написание текс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Информационные технологии (компютерные - интернет, электронная почта, программирование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Исследовательские (естественно-научные и гуманитарные методы исследова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4. Проектные (проектное мышление - разработка проектов и участие в их реализаци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Работа с числами (вычисления, использование математических методов для решения практических задач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6. Организационные (координация деятельности людей для достижения целей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Работа в группе (взаимодействие с другими в процессе достижения общей цел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Умение учиться  (планирование,  рефлексия,  самооценка,  само­стоятельная работа по теме, поиск информации из разных источников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9. Личностная (рефлексия сильных и слабых сторон своей личности, характера, приспособление к своим личностным особенностям, принятие себя, своего «Я»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0. Решение пробл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мпетентностную модел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временного учителя можно представить в виде состава входящих в нее элемен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ности, принципы и цел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кач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евые компетен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дагогические методы, способы и технолог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пози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00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Ценности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юда относятся те суждения, идеи, которые осознаны учителем и в его сознании определяют предельные ценностные границы его деятельност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чащегося быть самим соб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человек обладает своим «совершенством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видуальное развитие каждого учащеюся соответствует его способностям, интересам и возможност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аче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брожелательно и заинтересованно относиться к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готовым  принимать  конструктивную  критику от коллег и учащихся, вносить соответствующие коррективы в свою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развитую способность к критике 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здерживаться от роли кладезя мудрости и 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нимать других людей, имеющих иные ценности, интересы и 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открытым для любых мнений учащихся по обсуждаемому вопро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покойно реагировать на едкие замечания в сво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ую позицию и свою манеру обучения, не быть безлик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меть делиться с учащимися своими мысл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компетентное поведение - собственную ответственность за результат, любознательность, способность к кооперации и диалогу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увлеченность своим предме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спользовать четкий, понятный, гибкий язык с образными выраж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27T02:44:22Z</dcterms:modified>
  <cp:revision>13</cp:revision>
  <dc:subject/>
  <dc:title>Слайд 1</dc:title>
</cp:coreProperties>
</file>