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A00-CD82-4719-A1A4-4A7FF499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7F9-2967-400E-BAAC-F86111E4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2E7-5E04-4C4C-B536-2A3926AB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23C-FE47-4BAC-8D36-7E1B3271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3A9-1F4B-40F1-B719-2437CFF9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8D5-4855-4928-A51A-0D245AD7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8DA-5B73-4EB5-9BE1-78C3EF1E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46D-DA89-4C61-BF10-C85AF4CF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9F6-1AD8-4D5B-B7D9-07AC5906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227-0C57-4C75-BDE7-FA62E56B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04D-C0F1-41AE-9476-49F8032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11E-ABBC-4F67-8220-EEA8A4DD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8A67-D4EF-4D63-A79A-F001C9AB81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цедуры аттестации педагогических работников государственных и муниципальных образовательных учреждений Оренбургской области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как составная часть пакета документов аттестуемого представляется в Аттестационную комиссию, первыми с ним знакомятся эксперты. Они обрабатывают и подсчитывают результаты самооценки. Затем прилагают полученные результаты к листу самооценк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экспертной оценки и самооценка педагогической деятельности аттестуемого являются основными моментами в определении уровня квалификации при установлении соответствия требованиям квалификационных категор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делают вывод, насколько аргументировано заявление педагогического работника с просьбой об аттест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вправе включить в экспертное заключение рекомендации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ное заключение, содержащее вывод экспертной группы, подписывается руководителем и членами экспертной группы, заверяется подписью руководителя образовательного учреждения, печатью образовательного учреждения, передается в УО методисту курирующему аттеста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b050"/>
              </a:solidFill>
              <a:latin typeface="Monotype Corsiv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ью деятельности экспертной группы является проведение всестороннего анализа результатов профессиональной деятельности педагогического работника и подготовка экспертного заключ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принципами работы экспертной группы являются объективность, коллегиальность, открытость, коррект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боты экспер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ют и анализируют 1-2 урока, занятия или мероприятия, проводимых педагогическим работнико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с портфолио, следят за соответствием результатов деятельности аттестуемого требованиям, названным в Порядке;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зучают рабочие программы, классные журналы, результаты уровня контроля достижений обучающихся (воспитанников), методические и дидактические материалы, используемые и самостоятельно подготовленные аттестуемым и т.д.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водят беседы с руководителем образовательного учреждения, его заместителями, руководителем методического объединения, коллегами аттестуемого, со всеми, кто может предоставить аргументированную информацию об уровне развития компетенций аттестуем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эксперты обращают внимание на правовое знание, являющееся значимым параметром оценки соответствующих компетенц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аттестуемый заполняет самостоятельно, но, если у него возникли затруднения или вопросы, он вправе обратиться за помощью к экспертам, членам подкомиссии или Аттестационной комиссии, где ему обязаны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urukina</cp:lastModifiedBy>
  <dcterms:modified xsi:type="dcterms:W3CDTF">2015-11-05T05:21:30Z</dcterms:modified>
  <cp:revision>29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