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7CF-FDB8-40B7-A096-58F4719F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D30-42A0-4539-87AC-52EA3450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5B4-0576-45A6-9FB7-C48205F5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9DF3-D5DA-4392-B778-580E3CF2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5AE6-5F6F-4FD3-A2DC-5F7DA6AD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C53E-7001-4399-89C4-C0DFF219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5461-5D7F-47DF-97DC-259C5E36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96A1-6DAA-4B5D-B600-6A71C71A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34BE-30C7-43D2-8AAC-8D5E7FCF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8A72-92AE-45E2-8F21-3744BE22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574E-87CF-45D7-9AED-BB43A576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88E-C292-4E15-8F64-ACE2E3C2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85EA-E950-4D01-8F7D-C79A3250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9A06-C3E1-4259-A8A6-5D07F0A0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D401-2308-455A-929A-18E41498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FFE5-1CA8-4AE4-8336-F586E56B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1E17-7058-4840-8413-1793DE89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14DD3-A042-41E6-8622-56FDD88D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10DE2-AD31-4FC3-887C-3D9E3CFF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F0DE8-CFD9-428E-A28C-1A6FAAC1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93D5E-14DD-41F4-BA31-B0FB0898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3805C-F5A6-492B-B576-093B9B4E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7AE-CDC7-4F53-B68B-7CEF7D1F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1CDD2-063A-4E33-A181-A88EB458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3A9DA-3282-478C-8812-1DB4D278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3C9F5-BACB-429F-9150-207DC304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12F9F-BA5B-4A9F-81C1-BEF35B84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0FE68-CD41-4337-AE6E-3CDD61BC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B5FF2-8921-45CF-8308-02DBF617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74276-0571-433B-B43E-387BEB16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48F90-1206-4286-9CF1-B531B7F1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6575C6-3BAA-46FC-9EA0-7310958A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BC82D-31F3-43C9-B86A-77CA7A49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364-3638-4C8D-9645-2BEC0BE6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12465-EBCE-496D-BA40-9EBC461F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7FE44-7D24-4D71-A9B3-E94E4D6E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8421B9-A3E2-451D-AE08-93414839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DEE03F-99CD-47CF-87CE-C5AEE50C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877F3-61A5-4358-9F1D-1B14BF9E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9CB1A-5F99-4992-8F03-7D3C06B2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714910-5D86-4997-8CD5-21712451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1C1456-2186-46A2-B8C4-A6DD654F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26E59E-6D1E-4277-AFE9-FD624CD1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06DD0-57C6-4118-A018-50BAEFC0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AFF-C38C-4142-BF2E-48200A61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E1DD6-7DF4-43FB-8BD0-BB77E30D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A7B45-4685-4FDD-A314-520FDA88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E8A17-84F9-4E78-B99A-975A61C1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0F63D-19EE-4860-9E2E-22D1250C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24F0F-2FAF-4BF6-9B16-486C9279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6EA2F8-4A70-4403-870E-ADAD3EC1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B603B3-D2AB-4E44-82C2-CF05C871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7CB49-7653-4E09-BC93-CCA53B3D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C4124-9766-4CE9-AD5B-96D97BDC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DC6123-2B6F-4C71-86F1-DF861D95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CD8-12FB-4411-BB79-A94AB075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00D57-1746-436C-9838-197C671C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A47BE-42C9-4CE2-9ACC-0D0CA155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B83F4-BE60-4792-9B71-12B220C3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67CFE-7EED-4ABE-AFF0-44EAD674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0F114-D6CF-44E8-9866-60CBF037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101DA-6FC3-48F4-8077-C090ABAC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EAB95-7FAD-4D1E-A512-A43DAEA6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E1411-D9E4-4031-A5A5-603E6551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F672F-1DBF-4770-9B56-389C3CED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E4335-A4D3-4996-AADB-923D5229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5BA-7BCC-4204-B0C8-1D938039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C60D7-B7C7-42BB-9EA7-50024E92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CA346-CEAE-4041-887B-22FF5575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46AD6-C640-41F1-84DA-1A59A18D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776C1A-06DB-4656-8E82-E4590CF5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7CC483-BC50-4AAA-A597-9F377022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CDAD1-8885-4BDB-8204-10DEA8AF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DEDA5-DF6C-44E5-BC58-A6E8CF5B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62A11C-1740-4CCA-9B4D-4E5F1B6A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3D73AA-70D0-4450-BE9E-25272EAA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70FB1D-B0A6-48A8-A9A8-6F3C7200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19B-0E50-4E27-A6F1-9DB24BED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2179FB-6EFF-4A21-960C-B0D3571D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A65806-42F3-4B91-818A-2A65EC7F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24A3F-3B43-48BF-8E53-1D33B3EB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477AF2-1739-4131-A119-0EF0B13B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62B42-3BCE-4775-829F-13C0822E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6348D-40EE-4352-A953-4671D548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98F2A-E9CE-485F-AEFE-2B57E4EF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0615E-FB45-4E64-B286-7B5206D5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0950F-1178-4104-82A1-81589EBC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08393-9F90-487A-B220-32E28FBE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389-3CF0-4542-87B9-48FACED0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78175-512D-4E32-B048-A45AA9F3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86286-171D-405E-A8AF-EEABDD5D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086AC-E1ED-4246-A1AE-3477D7EC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E6994-ED02-419F-A8B8-55A80AF0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B7816-7A49-463A-B5D0-8C192909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FF4D8-CB17-4497-BACD-34B092C5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1F1C0-9E42-494B-A816-C9DFC33B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4933-9343-4787-8C2F-527BCE7CF11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667A-F9FE-4BA4-B3F7-043CE98162D6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49C1-81F2-477A-85B4-72647C4A01C0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5E6E-D663-45D2-9953-F649702909D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A40E-19AE-44CA-960C-8A795552793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FCF7-B7A9-4EDB-BBBE-2384EAA45001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02E4-5336-4696-8E47-2FD1F5801B8C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139E-04DD-4A13-B410-6DD7C6DA3B5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КОМПЕТЕНЦИИ УЧИТЕЛЯ И ЕГО КОМПЕТЕНТНОСТЬ</a:t>
            </a:r>
            <a:endParaRPr b="0" lang="en-US" sz="72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Августовские ММО  учителей начальных классов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МО Кувандыкский район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2009-2010 учебный год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28760" y="35676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Calibri"/>
              </a:rPr>
              <a:t>Профессиональные компетенции учител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азовая компетентность учителя заключается в умении организовать такую образовательную,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развивающую среду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которой становится возможным достижение образовательных результатов ребенка, сформулированных как ключевые компетенции. Уметь организовать обучение таким образом, чтобы оно стимулировало интерес, желание вместе думать и дискутировать, ставить оригинальные вопросы, проявлять независимое мышление, формулировать идеи, высказывать разнообразные точки зрения. Чтобы оно мотивировало учащихся на более высокие достижения и интеллектуальный рост. Можно выделить те характеристики ситуаций, которые должен уметь организовать любой учитель с целью создания в классе «развивающей среды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Характеристики образовательных ситуаций, которые должен уметь организовать любой учитель </a:t>
            </a: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с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целью создания в классе «развивающей сред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тивация учащихся на реализацию той или иной работы,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стоятельная, мотивированная учебная работа учащегося, деятельность (самостоятельное осуществление разных видов работы, в процессе которой происходит формирование умений, понятий, представлений поиск нужной информации, проектирование и реализация своей деятельности, осознанность цели работы и ответственность за результа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ение учащимся самостоятельного выбора (темы, целей, уровня сложности задания, форм и способов работы и т.д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групповой проектной работы учащихся (определение тем и проблем, распределение обязанностей, планирование, дискуссия, оценка и рефлексивное обсуждение результатов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ие детей в различных формах диску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понятий и организация на их основе своих действ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стема оценивания, которая позволяет и помогает учащемуся планировать свои будущие учебные результаты, самому оценивать уровень их достижения и совершенствовать 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57120" y="0"/>
            <a:ext cx="84297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Возможные действия учител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направленные на создание развивающей сре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ощрять за попытки что-то сделать самостоятель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монстрировать заинтересованность в успехе учащихся, связанном с достижением поставленных це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буждать к постановке трудных, но реалистичных це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буждать к выражению своей точки зрения, отличной от точки зре­ния окружающ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буждать к опробованию других способов мышления и поведе­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ключать учащихся в разные виды деятельности, развивающие у них различные способ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вать разные формы мотивации, позволяющие включать в мо­тивированную деятельность разных учащихся и поддерживать их актив­но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волять строить картину мира на основе своего понимания и куль­турных образц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вать условия для проявления инициативы на основе собствен­ных представл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не бояться высказывать свое понимание проблемы. Особенно в тех случаях, когда оно расходится с пониманием большин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задавать вопросы и высказывать предлож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выслушивать и стараться понять мнение других, но соблюдать право не соглашаться с ни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13840"/>
            <a:ext cx="847260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Учить понимать других людей, имеющих иные ценности, интересы и способност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определять свою позицию относительно обсуждаемой проблемы и свою роль в групповой рабо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водить до полного понимания учащимися критериев оценки результатов их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осуществлять самооценку своей деятельности и ее результатов по известным критерия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работать в группе, понимая, в чем состоит конечный результат, при выполнении своей части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казывать, что лежит в основе эффективной работы групп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волять учащимся брать на себя ответственность за конечный результа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волять учащимся находить место в коллективной деятельности сообразно своим интересам и способностя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литься с учениками своими мыслями, чувствами, ожиданиями относительно обсуждаемой проблемы, темы или конкретной ситуации их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казывать ученикам, как можно самостоятельно учиться и придумывать что-то ново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1оддерживать учащихся, когда они делают ошибки, и помогать справляться с ни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казывать относительность любого знания и его связь с ценностями, целями и способами мышления тех, кто их породи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монстрировать учащимся, что осознание того, что я чего-то «не знаю», «не умею» или «не понимаю», не только не стыдно, по является первым шагом к «знаю», «умею» и «понимаю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0" y="35712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сновные компетенции современного учи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учиться вместе с учениками, самостоятельно закрывая свои «образовательные дыры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планировать и организовывать самостоятельную деятельность учащихся (помогать учащемуся определять цели и образовательные результаты на языке умений/компетенци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мотивировать учащихся, включая их в разнообразные виды деятельности, позволяющие наработать им требуемые компетен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«сценировать» учебный процесс, используя разнообразные формы организации деятельности и включая разных учащихся в разные виды работы и деятельности, с учетом их склонностей, индивидуальных особенностей и интерес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занимать позицию эксперта в отношении демонстрируемых учащимся компетенций в разных видах деятельности и оценивать их при помощи соответствующих критери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подмечать склонности учащегося и в соответствии с ними определять наиболее подходящий для него учебный материал или деяте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00040" y="7142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проектным мышлением и уметь организовать групповую проектную деятельность учащихся и руководить е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исследовательским мышлением, умея организовать исследо­вательскую работу учащихся и руководить е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систему оценивания, позволяющую учащимся адекватно оценивать свои достижения и совершенствовать 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осуществлять рефлексию своей деятельности и своего поведе­ния и уметь организовать ее у учащихся в процессе учебных заня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организовать понятийную работу уча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вести занятия в режиме диалога и дискуссии, создавая атмосферу, в которой учащиеся хотели бы высказывать свои сомнения, мнения и точки зрения на обсуждаемый предмет, дискутируя не только между собой, но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ем, принимая то, что собственная точка зрения может быть также подвергнута сомнению и крити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компьютерными технологиями и использовать их в учебном процес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ff0000"/>
                </a:solidFill>
                <a:uFillTx/>
                <a:latin typeface="Calibri"/>
              </a:rPr>
              <a:t>Педагогические методы, способы и технолог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спользуются все возможные методы, способы и технологии, позволяющие достигать поставленных целей. Среди них можно отметить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ехнологию «критического мышления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ектно-исследовательский метод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рганизацию разнообразных форм диалога и дискусс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етоды формирования понят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642960" y="500040"/>
            <a:ext cx="8043840" cy="55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63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ктуальность внедрения компетентностного подхода и российскую школу становится все более очевидной. На смену ЗУНам приходят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надпредметные образовательные результаты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. Однако для того, чтобы они действительно стали предметом инновации для массовой школы, необходимо, чтобы этой идеей прониклись в первую очередь учителя. Ибо учитель не может развивать те компетенции, которыми не владеет с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8920" indent="633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ущественные перемены в образовании невозможны без кардинальных изменений профессионального 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сознания учителя. Это предполагает существенные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образования в системе воспроизводства педагогических кадров и изменения отношения со стороны общества к учительскому сословию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жде должна быть разработана государственная политика в отношении выращивания новой генерации учителей с иным сознанием, иными ценностями и профессиональными компетенциями, направленная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на создание сообщества учителей в качестве новой общественной эли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3a5750"/>
                </a:solidFill>
                <a:latin typeface="Calibri"/>
              </a:rPr>
              <a:t>Чему противостоит компетентностный подход в образовании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Традиционному предметному репродуктивному «обучению», в основу которого заложена идея трансляции и усвоения знаний (информации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Селективной, двухуровневой отметочной системе оцени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Принудительным формам организации учебных занятий, сходным с конвейерным способом организации труда </a:t>
            </a:r>
            <a:r>
              <a:rPr b="1" lang="en-US" sz="2700" spc="-1" strike="noStrike">
                <a:solidFill>
                  <a:srgbClr val="3a5750"/>
                </a:solidFill>
                <a:latin typeface="Tw Cen MT"/>
              </a:rPr>
              <a:t>XIX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ве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Вертикальной, иерархически организованной системе административного руковод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компетентностный подход в образовании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новывается на следующих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ринципах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разование для жизни, для успешной социализации в обществе и личностного развит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ценивание для обеспечения возможности учащемуся самому планировать свои образовательные результаты и совершенствовать их в процессе постоянной самооценк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нообразные формы организации самостоятельной, осмысленной деятельности учащихся на основе собственной мотивации и ответствен­ности за результа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тричная система управления, делегирование полномочий, привле­чение родителей, учащихся и людей «извне» к управлению ОУ и оценке его деятель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42920"/>
            <a:ext cx="89298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жно выделить следующи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группы надпредметных образовательных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результатов, то есть ключевых компетенци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. Коммуникативные (понимание текстов, работа с информацией, выступление, написание текстов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2. Информационные технологии (компютерные - интернет, электронная почта, программирование и т.д.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3. Исследовательские (естественно-научные и гуманитарные методы исследования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4. Проектные (проектное мышление - разработка проектов и участие в их реализации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5. Работа с числами (вычисления, использование математических методов для решения практических задач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6. Организационные (координация деятельности людей для достижения целей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7. Работа в группе (взаимодействие с другими в процессе достижения общей цели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8. Умение учиться  (планирование,  рефлексия,  самооценка,  само­стоятельная работа по теме, поиск информации из разных источников и т.д.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9. Личностная (рефлексия сильных и слабых сторон своей личности, характера, приспособление к своим личностным особенностям, принятие себя, своего «Я»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0. Решение пробле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2876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Компетентностную модель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временного учителя можно представить в виде состава входящих в нее элемен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Ценности, принципы и цел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фессиональные качеств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лючевые компетен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дагогические методы, способы и технолог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фессиональные пози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0004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Ценности</a:t>
            </a:r>
            <a:r>
              <a:rPr b="0" i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сюда относятся те суждения, идеи, которые осознаны учителем и в его сознании определяют предельные ценностные границы его деятельности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учащегося быть самим соб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ждый человек обладает своим «совершенством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мочь каждому учащемуся его индивидуальные дарования сделать социально плодотворны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дивидуальное развитие каждого учащеюся соответствует его способностям, интересам и возможностя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ловек учится только тому, что соответствует его способностям, интересам и что он считает полезным для себ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бы быть успешным в современном обществе, выпускник должен владеть соответствующим комплексом ключевых компетенц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общение учащегося к той культурной традиции, которая в максимальной степени может способствовать его развит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480" y="214200"/>
            <a:ext cx="8643960" cy="64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Профессиональные качест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оброжелательно и заинтересованно относиться к учащим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быть готовым  принимать  конструктивную  критику от коллег и учащихся, вносить соответствующие коррективы в свою деятель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меть собственный взгляд на социальную ситуацию и окружающий мир и быть способным поделиться своим видением с учащими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меть развитую способность к критике и рефлекс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оздерживаться от роли кладезя мудрости и зн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онимать других людей, имеющих иные ценности, интересы и способ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быть открытым для любых мнений учащихся по обсуждаемому вопрос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покойно реагировать на едкие замечания в свой адре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меть собственную позицию и свою манеру обучения, не быть безлики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уметь делиться с учащимися своими мыслями и чувства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емонстрировать компетентное поведение - собственную ответственность за результат, любознательность, способность к кооперации и диалогу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емонстрировать увлеченность своим предмет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спользовать четкий, понятный, гибкий язык с образными выражен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8-27T02:44:22Z</dcterms:modified>
  <cp:revision>13</cp:revision>
  <dc:subject/>
  <dc:title>Слайд 1</dc:title>
</cp:coreProperties>
</file>