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C25-DE61-4BE5-B169-38DAFD69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0B4-5779-40B2-8CAE-E17E7361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532-D52B-40C4-913A-A61CECC6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DBB-48DB-4AA6-9A15-15BA4C34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E186-68AC-400A-A0BB-25625BF1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5B8A-7859-4CA6-A2F0-79DAE459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6417-6A56-4EAB-B2AB-086EFB30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112F-F5D1-41BC-AD9E-AB2BD22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B69-C513-41C8-8088-F7A2D65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C8B-C33D-4FFF-829E-11855DE6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2113-0A58-4DAE-81CE-69F50739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753-39BF-4615-9F4B-97F23D03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E31-70FC-4CEA-B5D0-EBB9F4E9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7EF0-4C09-483D-A33E-75EBC725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A8E7-7D1D-4BDA-9009-2DABEB2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B62B-C627-4FE8-AC51-01127518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7B40-8F62-4192-B7A8-91091AAA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5BAB8-EB5B-4BF3-9A05-97B3692D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DF5E4-3528-47B6-8739-10102F7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6DA2A-BF85-40DA-BA60-9001B2CC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113BF-E7D9-4A66-A598-3B4E3D1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BA574-FCDA-416C-B9DA-3BFD2578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9D8-99F9-4D5E-98A2-CE330169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5DB83B-F715-4FB1-A44E-D06805BC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A6D4F-02B7-405F-B5D3-3F60BD90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C83A4-6533-4191-B072-DE95D9B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60367-8B82-409B-9664-AAC15C1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24600-56C9-4853-97DB-F2A5401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6734A-080D-4C0F-9C76-6BAC5294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C3ABF-EBDF-4367-BC58-C4EFA08D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7063E-27AD-4AA4-A1A7-50A0BAB5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70183-E827-400C-9B3B-B11588A5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F45DB-B589-4E9D-B588-9421C3EE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56A-7449-4001-AE10-5A5F415A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2792FB-6242-4D3C-BC5C-D8FC1463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16FF0-F8A2-4537-ABF1-990DAAE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7CBEE-ADD5-4347-B341-8BCB6915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2BAF4-E66E-4066-8812-577FB4EA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B0F10-5A30-41A7-AD41-71129EA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1264A-141D-433F-BEC9-A56B6A0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743A1-11FC-410B-BA98-328BD1E6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98519-2B74-4952-8C7E-9CBA1779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37C279-6964-4467-BDB3-6B02E4FC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8D20A-E688-46F1-8AA5-71DD6880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6D7-3F3E-4417-8135-CF70DB4D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55C04-E748-4830-A977-1ADA5E3A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2CA54-2E89-431E-9BD9-621A6177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D245E-1578-4D60-AA5F-90F2C0C0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EAD9C-4B10-476E-BF2D-6A9DEB9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56AF0-51DF-45A5-B914-77F40304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4EA8E-2C71-41B6-ACE2-B20FF68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6F4FE-EAD8-4DD1-8727-09BAA03B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36D3DD-29D1-4BDA-AE28-96BCC58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9FB1C-6D01-4E64-9B1F-1AA47DA1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363A4-8CD5-49D7-9007-38296153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E330-B472-467E-A904-EB7E5CB0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AAD4C-2F55-4ADA-B27A-133D94EE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DB7C-10C1-48E5-A233-9A91CBFE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563AD-FD19-436F-8592-31F29BF3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D4819-EEAC-4BD2-980C-B18D120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BAC27-3339-4CCF-B8D6-5C7AF361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0F3D-8E88-4933-86BD-02DDBF1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378D-E48E-4AD1-B0D8-548F241F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4266-ED54-4660-BF3D-1B3DD36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38D1-EB4B-440E-AB97-85761A7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5A015-A6AB-4887-ACF5-002D342F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A943-9286-4CBF-976B-A237F30F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B1AC1-AADB-4AD0-9A4C-6CE64F37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ECD58-3B75-4BBA-BB25-74E2C9BE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F8A77-3A77-4C37-ACFF-3F66F20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81F9F-B513-46BA-8084-4A6AD891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05F91-B58F-49D3-8977-B6CB919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9F02B1-641F-46C2-B009-F771D7F9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E770A9-DF41-4222-8EC8-23C5909C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263AC-EA7F-4D13-859E-2946DC0B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05A63-E1BE-41EF-A9C4-D5E12EB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2DF6F-8BC9-40A4-B765-DD6AFD6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169-B1FD-43A6-B073-C280A454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0A2735-C31E-460A-9CFA-2F663F5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70157-C85E-40D7-86BF-60EBC06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7CBA9-1771-47EA-9F8B-935B4426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69262-EDC2-4F55-91EA-09F1C4F0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4E34C-A0E3-4A16-BF94-10311456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BC7D4-B7D4-40E8-9B1A-8B4A6E56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B5408-D6AB-4795-B347-89CD515D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9EDC-9B91-4A81-A692-18818FF7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C65A-6BE5-4E51-88B0-DD567AE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D957-2F30-4C36-B00F-31186DF0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7AA-9FA0-4FFE-AB3E-28E695D9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7D98-AE7E-49B1-94C2-88877173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63D7D-93B5-4731-A485-1B34958E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8CFD-2469-4CFC-9FCB-5FD315CC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46212-F8D4-4015-B76B-65FD32E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2BB6D-6DA5-4A4B-94AB-60BDB7A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27D6A-FA66-4075-8197-E7E875EF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C2D4-C060-4363-BA34-D060C982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E86E-7ADE-4215-8611-05FB957675A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3AD3-42E9-42EB-86CD-B53006891E57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16EB-72BC-49A1-823E-F5E4712832A1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E36B-4161-4F2A-9950-0C393C15CA0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B4A-D527-4663-AA4C-B79DACBDEEC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2F95-B801-4762-9263-CD9B6A1906C8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9DF7-9270-40C3-AB3C-AD7E14C7692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ACB8-2600-4AF0-8AC1-889F3960E6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КОМПЕТЕНЦИИ УЧИТЕЛЯ И ЕГО КОМПЕТЕНТНОСТЬ</a:t>
            </a:r>
            <a:endParaRPr b="0" lang="en-US" sz="72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Августовские ММО  учителей начальных классов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МО Кувандыкский район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2009-2010 учебный год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2876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омпетенции учител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азовая компетентность учителя заключается в умении организовать такую образовательную,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ивающую среду,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которой становится возможным достижение образовательных результатов ребенка, сформулированных как ключевые компетенции. Уметь организовать обучение таким образом, чтобы оно стимулировало интерес, желание вместе думать и дискутировать, ставить оригинальные вопросы, проявлять независимое мышление, формулировать идеи, высказывать разнообразные точки зрения. Чтобы оно мотивировало учащихся на более высокие достижения и интеллектуальный рост. Можно выделить те характеристики ситуаций, которые должен уметь организовать любой учитель с целью создания в классе «развивающей среды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образовательных ситуаций, которые должен уметь организовать любой учитель </a:t>
            </a: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с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целью создания в классе «развивающей сред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тивация учащихся на реализацию той или иной работы,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стоятельная, мотивированная учебная работа учащегося, деятельность (самостоятельное осуществление разных видов работы, в процессе которой происходит формирование умений, понятий, представлений поиск нужной информации, проектирование и реализация своей деятельности, осознанность цели работы и ответственность за результа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уществление учащимся самостоятельного выбора (темы, целей, уровня сложности задания, форм и способов работы и т.д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групповой проектной работы учащихся (определение тем и проблем, распределение обязанностей, планирование, дискуссия, оценка и рефлексивное обсуждение результат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детей в различных формах дискусс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понятий и организация на их основе своих дей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ема оценивания, которая позволяет и помогает учащемуся планировать свои будущие учебные результаты, самому оценивать уровень их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57120" y="0"/>
            <a:ext cx="84297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Возможные действия учител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авленные на создание развивающей сре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ощрять за попытки что-то сделать самостоятель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заинтересованность в успехе учащихся, связанном с достижением поставлен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постановке трудных, но реалистичных це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выражению своей точки зрения, отличной от точки зре­ния окружающи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буждать к опробованию других способов мышления и поведе­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ключать учащихся в разные виды деятельности, развивающие у них различные способ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разные формы мотивации, позволяющие включать в мо­тивированную деятельность разных учащихся и поддерживать их актив­ност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строить картину мира на основе своего понимания и куль­турных образц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вать условия для проявления инициативы на основе собствен­ных представле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не бояться высказывать свое понимание проблемы. Особенно в тех случаях, когда оно расходится с пониманием большинст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задавать вопросы и высказывать предлож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выслушивать и стараться понять мнение других, но соблюдать право не соглашаться с н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3840"/>
            <a:ext cx="84726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Учить понимать других людей, имеющих иные ценности, интересы и способност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пределять свою позицию относительно обсуждаемой проблемы и свою роль в групповой рабо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водить до полного понимания учащимися критериев оценки результатов их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осуществлять самооценку своей деятельности и ее результатов по известным критери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чить работать в группе, понимая, в чем состоит конечный результат, при выполнении своей части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, что лежит в основе эффективной работы групп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брать на себя ответственность за конечный результ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волять учащимся находить место в коллективной деятельности сообразно своим интересам и способностя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литься с учениками своими мыслями, чувствами, ожиданиями относительно обсуждаемой проблемы, темы или конкретной ситуации их деятель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ученикам, как можно самостоятельно учиться и придумывать что-то ново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1оддерживать учащихся, когда они делают ошибки, и помогать справляться с ни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казывать относительность любого знания и его связь с ценностями, целями и способами мышления тех, кто их породи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монстрировать учащимся, что осознание того, что я чего-то «не знаю», «не умею» или «не понимаю», не только не стыдно, по является первым шагом к «знаю», «умею» и «понимаю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0" y="35712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Основные компетенции современного учите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учиться вместе с учениками, самостоятельно закрывая свои «образовательные дыр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ланировать и организовывать самостоятельную деятельность учащихся (помогать учащемуся определять цели и образовательные результаты на языке умений/компетенций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мотивировать учащихся, включая их в разнообразные виды деятельности, позволяющие наработать им требуемые компетен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«сценировать» учебный процесс, используя разнообразные формы организации деятельности и включая разных учащихся в разные виды работы и деятельности, с учетом их склонностей, индивидуальных особенностей и интерес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занимать позицию эксперта в отношении демонстрируемых учащимся компетенций в разных видах деятельности и оценивать их при помощи соответствующих критери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подмечать склонности учащегося и в соответствии с ними определять наиболее подходящий для него учебный материал или деяте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0004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проектным мышлением и уметь организовать групповую проектную деятельность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исследовательским мышлением, умея организовать исследо­вательскую работу учащихся и руководить е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систему оценивания, позволяющую учащимся адекватно оценивать свои достижения и совершенство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существлять рефлексию своей деятельности и своего поведе­ния и уметь организовать ее у учащихся в процессе учебных занят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организовать понятийную работу учащих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меть вести занятия в режиме диалога и дискуссии, создавая атмосферу, в которой учащиеся хотели бы высказывать свои сомнения, мнения и точки зрения на обсуждаемый предмет, дискутируя не только между собой, н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чителем, принимая то, что собственная точка зрения может быть также подвергнута сомнению и кри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ладеть компьютерными технологиями и использовать их в учебном процес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методы, способы и технолог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спользуются все возможные методы, способы и технологии, позволяющие достигать поставленных целей. Среди них можно отметить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хнологию «критического мышления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ектно-исследовательский метод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рганизацию разнообразных форм диалога и дискусс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оды формирования поняти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642960" y="500040"/>
            <a:ext cx="804384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633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ктуальность внедрения компетентностного подхода и российскую школу становится все более очевидной. На смену ЗУНам приходят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libri"/>
              </a:rPr>
              <a:t>надпредметные образовательные результаты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. Однако для того, чтобы они действительно стали предметом инновации для массовой школы, необходимо, чтобы этой идеей прониклись в первую очередь учителя. Ибо учитель не может развивать те компетенции, которыми не владеет с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8920" indent="633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ущественные перемены в образовании невозможны без кардинальных изменений профессионального </a:t>
            </a: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сознания учителя. Это предполагает существенные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бразования в системе воспроизводства педагогических кадров и изменения отношения со стороны общества к учительскому сословию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жде должна быть разработана государственная политика в отношении выращивания новой генерации учителей с иным сознанием, иными ценностями и профессиональными компетенциями, направленная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на создание сообщества учителей в качестве новой общественной элит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428760"/>
            <a:ext cx="8229600" cy="56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3a5750"/>
                </a:solidFill>
                <a:latin typeface="Calibri"/>
              </a:rPr>
              <a:t>Чему противостоит компетентностный подход в образовани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Традиционному предметному репродуктивному «обучению», в основу которого заложена идея трансляции и усвоения знаний (информации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Селективной, двухуровневой отметочной системе оцени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Принудительным формам организации учебных занятий, сходным с конвейерным способом организации труда </a:t>
            </a:r>
            <a:r>
              <a:rPr b="1" lang="en-US" sz="2700" spc="-1" strike="noStrike">
                <a:solidFill>
                  <a:srgbClr val="3a5750"/>
                </a:solidFill>
                <a:latin typeface="Tw Cen MT"/>
              </a:rPr>
              <a:t>XIX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•  </a:t>
            </a:r>
            <a:r>
              <a:rPr b="1" lang="ru-RU" sz="2700" spc="-1" strike="noStrike">
                <a:solidFill>
                  <a:srgbClr val="3a5750"/>
                </a:solidFill>
                <a:latin typeface="Calibri"/>
              </a:rPr>
              <a:t>Вертикальной, иерархически организованной системе административного руковод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мпетентностный подход в образовании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сновывается на следующих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разование для жизни, для успешной социализации в обществе и личностного разви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ценивание для обеспечения возможности учащемуся самому планировать свои образовательные результаты и совершенствовать их в процессе постоянной самооценк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нообразные формы организации самостоятельной, осмысленной деятельности учащихся на основе собственной мотивации и ответствен­ности за результа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атричная система управления, делегирование полномочий, привле­чение родителей, учащихся и людей «извне» к управлению ОУ и оценке его деятельност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жно выделить следующие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группы надпредметных образовательных </a:t>
            </a:r>
            <a:r>
              <a:rPr b="1" lang="ru-RU" sz="1700" spc="-1" strike="noStrike">
                <a:solidFill>
                  <a:srgbClr val="ff0000"/>
                </a:solidFill>
                <a:latin typeface="Calibri"/>
              </a:rPr>
              <a:t>результатов, то есть ключевых компетенци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. Коммуникативные (понимание текстов, работа с информацией, выступление, написание текстов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2. Информационные технологии (компютерные - интернет, электронная почта, программирование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3. Исследовательские (естественно-научные и гуманитарные методы исследования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4. Проектные (проектное мышление - разработка проектов и участие в их реализаци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5. Работа с числами (вычисления, использование математических методов для решения практических задач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6. Организационные (координация деятельности людей для достижения целей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7. Работа в группе (взаимодействие с другими в процессе достижения общей цели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8. Умение учиться  (планирование,  рефлексия,  самооценка,  само­стоятельная работа по теме, поиск информации из разных источников и т.д.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9. Личностная (рефлексия сильных и слабых сторон своей личности, характера, приспособление к своим личностным особенностям, принятие себя, своего «Я»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10. Решение пробл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омпетентностную модель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овременного учителя можно представить в виде состава входящих в нее элемен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ности, принципы и цел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качеств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ючевые компетен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дагогические методы, способы и технолог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фессиональные пози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00040" y="42840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Ценности</a:t>
            </a:r>
            <a:r>
              <a:rPr b="0" i="1" lang="ru-RU" sz="2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сюда относятся те суждения, идеи, которые осознаны учителем и в его сознании определяют предельные ценностные границы его деятельности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чащегося быть самим соб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человек обладает своим «совершенством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мочь каждому учащемуся его индивидуальные дарования сделать социально плодотворны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дивидуальное развитие каждого учащеюся соответствует его способностям, интересам и возможностя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ловек учится только тому, что соответствует его способностям, интересам и что он считает полезным для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бы быть успешным в современном обществе, выпускник должен владеть соответствующим комплексом ключевых компетен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общение учащегося к той культурной традиции, которая в максимальной степени может способствовать его развит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Профессиональные каче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оброжелательно и заинтересованно относиться к учащим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готовым  принимать  конструктивную  критику от коллег и учащихся, вносить соответствующие коррективы в свою деятель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ый взгляд на социальную ситуацию и окружающий мир и быть способным поделиться своим видением с учащимис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развитую способность к критике и рефлекс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воздерживаться от роли кладезя мудрости и зн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нимать других людей, имеющих иные ценности, интересы и способ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быть открытым для любых мнений учащихся по обсуждаемому вопрос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спокойно реагировать на едкие замечания в свой адр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меть собственную позицию и свою манеру обучения, не быть безлики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меть делиться с учащимися своими мыслями и чувства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компетентное поведение - собственную ответственность за результат, любознательность, способность к кооперации и диалогу и т.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емонстрировать увлеченность своим предмет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•  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спользовать четкий, понятный, гибкий язык с образными выражени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8-27T02:44:22Z</dcterms:modified>
  <cp:revision>13</cp:revision>
  <dc:subject/>
  <dc:title>Слайд 1</dc:title>
</cp:coreProperties>
</file>