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6E1-4601-41F2-8B6E-30217E39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C15-9CDA-46A6-8AA7-A1D0FC7B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F02-BBF2-48B1-B479-17C652E9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637-43EB-4AFF-88EA-78774964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CACD-C4F0-4CD1-B49B-79DB0016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CF4-42D7-427E-BB5A-559164CC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1713-9632-45EA-A5B9-6CB33A6A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4CD-9C7E-4C35-A14D-21E948C3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069-86C6-4ECF-B5D2-02FBBE66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8DD3-D49B-46EF-BE88-EE365037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1DC-3C06-4DF3-AF31-49E869A6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293-F608-4B0A-B190-60EFF13C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2"/>
          <p:cNvSpPr/>
          <p:nvPr/>
        </p:nvSpPr>
        <p:spPr>
          <a:xfrm>
            <a:off x="228600" y="228600"/>
            <a:ext cx="8686800" cy="6477120"/>
          </a:xfrm>
          <a:prstGeom prst="roundRect">
            <a:avLst>
              <a:gd name="adj" fmla="val 8213"/>
            </a:avLst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0DB8-FCB2-4AD4-8930-DB70E6FF73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223"/>
          <p:cNvPicPr/>
          <p:nvPr/>
        </p:nvPicPr>
        <p:blipFill>
          <a:blip r:embed="rId4"/>
          <a:stretch/>
        </p:blipFill>
        <p:spPr>
          <a:xfrm>
            <a:off x="152280" y="152280"/>
            <a:ext cx="1067040" cy="101916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28600" y="228600"/>
            <a:ext cx="8915400" cy="6527880"/>
            <a:chOff x="228600" y="228600"/>
            <a:chExt cx="8915400" cy="6527880"/>
          </a:xfrm>
        </p:grpSpPr>
        <p:sp>
          <p:nvSpPr>
            <p:cNvPr id="44" name="Freeform 7"/>
            <p:cNvSpPr/>
            <p:nvPr/>
          </p:nvSpPr>
          <p:spPr>
            <a:xfrm>
              <a:off x="228600" y="228600"/>
              <a:ext cx="8534520" cy="5537160"/>
            </a:xfrm>
            <a:prstGeom prst="pie">
              <a:avLst/>
            </a:prstGeom>
            <a:noFill/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57200" y="533520"/>
              <a:ext cx="8610480" cy="5537160"/>
            </a:xfrm>
            <a:prstGeom prst="pie">
              <a:avLst/>
            </a:prstGeom>
            <a:noFill/>
            <a:ln w="9360">
              <a:solidFill>
                <a:srgbClr val="9873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685800" y="1066680"/>
              <a:ext cx="8458200" cy="5308560"/>
            </a:xfrm>
            <a:prstGeom prst="pie">
              <a:avLst/>
            </a:prstGeom>
            <a:noFill/>
            <a:ln w="25560">
              <a:solidFill>
                <a:srgbClr val="9e9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066680" y="1676520"/>
              <a:ext cx="8001000" cy="5079960"/>
            </a:xfrm>
            <a:prstGeom prst="pie">
              <a:avLst/>
            </a:prstGeom>
            <a:noFill/>
            <a:ln w="25560">
              <a:solidFill>
                <a:srgbClr val="bcb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AutoShape 12"/>
          <p:cNvSpPr/>
          <p:nvPr/>
        </p:nvSpPr>
        <p:spPr>
          <a:xfrm>
            <a:off x="533520" y="1295280"/>
            <a:ext cx="8076960" cy="3353040"/>
          </a:xfrm>
          <a:prstGeom prst="roundRect">
            <a:avLst>
              <a:gd name="adj" fmla="val 9755"/>
            </a:avLst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223"/>
          <p:cNvPicPr/>
          <p:nvPr/>
        </p:nvPicPr>
        <p:blipFill>
          <a:blip r:embed="rId3"/>
          <a:stretch/>
        </p:blipFill>
        <p:spPr>
          <a:xfrm>
            <a:off x="7086600" y="4800600"/>
            <a:ext cx="1371600" cy="130968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pic>
        <p:nvPicPr>
          <p:cNvPr id="50" name="Picture 25" descr="43"/>
          <p:cNvPicPr/>
          <p:nvPr/>
        </p:nvPicPr>
        <p:blipFill>
          <a:blip r:embed="rId4"/>
          <a:stretch/>
        </p:blipFill>
        <p:spPr>
          <a:xfrm>
            <a:off x="3048120" y="3352680"/>
            <a:ext cx="2904840" cy="228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оцедуры аттестации педагогических работников государственных и муниципальных образовательных учреждений Оренбургской области</a:t>
            </a: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 самооценки как составная часть пакета документов аттестуемого представляется в Аттестационную комиссию, первыми с ним знакомятся эксперты. Они обрабатывают и подсчитывают результаты самооценки. Затем прилагают полученные результаты к листу самооценки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экспертной оценки и самооценка педагогической деятельности аттестуемого являются основными моментами в определении уровня квалификации при установлении соответствия требованиям квалификационных категор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ы делают вывод, насколько аргументировано заявление педагогического работника с просьбой об аттеста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ы вправе включить в экспертное заключение рекомендации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ное заключение, содержащее вывод экспертной группы, подписывается руководителем и членами экспертной группы, заверяется подписью руководителя образовательного учреждения, печатью образовательного учреждения, передается в УО методисту курирующему аттестац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b050"/>
              </a:solidFill>
              <a:latin typeface="Monotype Corsiv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ctr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лью деятельности экспертной группы является проведение всестороннего анализа результатов профессиональной деятельности педагогического работника и подготовка экспертного заключен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принципами работы экспертной группы являются объективность, коллегиальность, открытость, корректно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аботы экспер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2361960"/>
            <a:ext cx="81532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щают и анализируют 1-2 урока, занятия или мероприятия, проводимых педагогическим работником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ятся с портфолио, следят за соответствием результатов деятельности аттестуемого требованиям, названным в Порядке;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изучают рабочие программы, классные журналы, результаты уровня контроля достижений обучающихся (воспитанников), методические и дидактические материалы, используемые и самостоятельно подготовленные аттестуемым и т.д.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оводят беседы с руководителем образовательного учреждения, его заместителями, руководителем методического объединения, коллегами аттестуемого, со всеми, кто может предоставить аргументированную информацию об уровне развития компетенций аттестуемо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эксперты обращают внимание на правовое знание, являющееся значимым параметром оценки соответствующих компетенци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 самооценки аттестуемый заполняет самостоятельно, но, если у него возникли затруднения или вопросы, он вправе обратиться за помощью к экспертам, членам подкомиссии или Аттестационной комиссии, где ему обязаны помо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Turukina</cp:lastModifiedBy>
  <dcterms:modified xsi:type="dcterms:W3CDTF">2015-11-05T05:21:30Z</dcterms:modified>
  <cp:revision>29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