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F74EC-C394-408A-9C19-F2249B41A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4669B-57B5-4356-840A-D2FC98553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9F8A4-C13E-4E61-B6E5-F3D016811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E4DB2-CA20-4FAE-9625-9E33C9ED9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9EEA2-56F2-4B6E-A94B-50BA5BC40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A126C-BFC2-4631-AC23-9FD0DEA82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50E40-CCDA-4949-A30C-8502361EA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2"/>
          <p:cNvSpPr/>
          <p:nvPr/>
        </p:nvSpPr>
        <p:spPr>
          <a:xfrm>
            <a:off x="764280" y="1484280"/>
            <a:ext cx="7306920" cy="19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ТАТЕЛЬСКОЙ ГРАМОТ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ПОДГОТОВКЕ К ГИ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ВНЕУРОЧ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087920" y="214200"/>
            <a:ext cx="69807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редняя общеобразовательная школа №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вандыкского городского округа Оренбург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4390200" y="3857760"/>
            <a:ext cx="42451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Нестерова И.В., уч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Описание исторического события — 1_page-0001.jpg"/>
          <p:cNvPicPr/>
          <p:nvPr/>
        </p:nvPicPr>
        <p:blipFill>
          <a:blip r:embed="rId1"/>
          <a:stretch/>
        </p:blipFill>
        <p:spPr>
          <a:xfrm>
            <a:off x="3708360" y="189000"/>
            <a:ext cx="4845240" cy="64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Биография личности_page-0001.jpg"/>
          <p:cNvPicPr/>
          <p:nvPr/>
        </p:nvPicPr>
        <p:blipFill>
          <a:blip r:embed="rId1"/>
          <a:stretch/>
        </p:blipFill>
        <p:spPr>
          <a:xfrm>
            <a:off x="3419640" y="333360"/>
            <a:ext cx="542124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Запомни эти факты_page-0001.jpg"/>
          <p:cNvPicPr/>
          <p:nvPr/>
        </p:nvPicPr>
        <p:blipFill>
          <a:blip r:embed="rId1"/>
          <a:stretch/>
        </p:blipFill>
        <p:spPr>
          <a:xfrm>
            <a:off x="3564000" y="0"/>
            <a:ext cx="50864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Мое мнение_page-0001.jpg"/>
          <p:cNvPicPr/>
          <p:nvPr/>
        </p:nvPicPr>
        <p:blipFill>
          <a:blip r:embed="rId1"/>
          <a:stretch/>
        </p:blipFill>
        <p:spPr>
          <a:xfrm>
            <a:off x="3276720" y="333360"/>
            <a:ext cx="520524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" descr="Решение проблемы_page-0001.jpg"/>
          <p:cNvPicPr/>
          <p:nvPr/>
        </p:nvPicPr>
        <p:blipFill>
          <a:blip r:embed="rId1"/>
          <a:stretch/>
        </p:blipFill>
        <p:spPr>
          <a:xfrm>
            <a:off x="2987640" y="0"/>
            <a:ext cx="551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" descr="Найти доказательства_page-0001.jpg"/>
          <p:cNvPicPr/>
          <p:nvPr/>
        </p:nvPicPr>
        <p:blipFill>
          <a:blip r:embed="rId1"/>
          <a:stretch/>
        </p:blipFill>
        <p:spPr>
          <a:xfrm>
            <a:off x="179280" y="198360"/>
            <a:ext cx="878544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1" descr="Причина и следствие_page-0001.jpg"/>
          <p:cNvPicPr/>
          <p:nvPr/>
        </p:nvPicPr>
        <p:blipFill>
          <a:blip r:embed="rId1"/>
          <a:stretch/>
        </p:blipFill>
        <p:spPr>
          <a:xfrm>
            <a:off x="250920" y="198360"/>
            <a:ext cx="849780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описание персонажа_page-0001.jpg"/>
          <p:cNvPicPr/>
          <p:nvPr/>
        </p:nvPicPr>
        <p:blipFill>
          <a:blip r:embed="rId1"/>
          <a:stretch/>
        </p:blipFill>
        <p:spPr>
          <a:xfrm>
            <a:off x="250920" y="198360"/>
            <a:ext cx="864216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1"/>
          <p:cNvSpPr/>
          <p:nvPr/>
        </p:nvSpPr>
        <p:spPr>
          <a:xfrm>
            <a:off x="324000" y="873000"/>
            <a:ext cx="8496000" cy="971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142920" y="1844640"/>
            <a:ext cx="84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250920" y="357120"/>
            <a:ext cx="889308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Читательская грамотность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–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особность человека понимать и использовать тексты, размышлять о них и заниматься чтением для того, чтобы достигать своих целей, расширять свои знания и возможности, участвовать в социальной жиз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0" y="189000"/>
            <a:ext cx="9144000" cy="971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https://www.i-igrushki.ru/upload/iblock/850/850e67c9931b702d32a96bc8bb1fad68.jpg"/>
          <p:cNvPicPr/>
          <p:nvPr/>
        </p:nvPicPr>
        <p:blipFill>
          <a:blip r:embed="rId1"/>
          <a:stretch/>
        </p:blipFill>
        <p:spPr>
          <a:xfrm>
            <a:off x="1206360" y="3492360"/>
            <a:ext cx="6797880" cy="27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826920" y="512640"/>
            <a:ext cx="7920360" cy="53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11280" y="100080"/>
            <a:ext cx="813744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итательская грамотность включает в себя следующи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читательские ум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Поиск и извлечение информации из тек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Понимание информации, сообщенной в тексте, ее интерпре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Размышление о содержании текстового сообщения и его оц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Размышление о форме текстового сообщения и ее оц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Осмысление и оценка информации (критически оценить качество и достоверность информации, обнаружение противоречий), применение полученной информации при решении широкого круга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Ориентация во множественных текстах ( интерпретация и обобщение информации из нескольких отличающихся источник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Умение ориентироваться в современном мире и справляться с новыми появившимися требованиями. Многие тексты связаны с оценкой использования информации в Интернете, в частности, как распознать достоверные сайты и онлайн документы; умение читать текст с гиперссыл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9349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934920" y="1593720"/>
            <a:ext cx="79200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99308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"/>
          <p:cNvPicPr/>
          <p:nvPr/>
        </p:nvPicPr>
        <p:blipFill>
          <a:blip r:embed="rId1"/>
          <a:srcRect l="0" t="0" r="3982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684360" y="1186920"/>
            <a:ext cx="763272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екстная задач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- это задача мотивационного характера, в условии которой описана конкретная жизненная ситуация, коррелирующая с имеющимся социокультурным опытом учащихся (известное, данное); требованием (неизвестным) задачи является анализ, осмысление и объяснение этой ситуации или выбор способа действия в ней, а результатом решения задачи является встреча с проблемой и осознание её личностной значимости.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611280" y="121320"/>
            <a:ext cx="792144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Описание 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– тип текста, информация которого относится к объектам и их пространственным свойст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Повествование 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– тип текста, информация которого относится к объектам и их временным свойст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Толкование 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– тип текста, который дает законченную характеристику понятия в сложном взаимодействии его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уждение – 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тип текста, который описывает отношения между утверждениями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нструкция (иногда называемая предписанием, приказом) – 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тип текста, который содержит указания к действию и отвечает на вопрос «что делать?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говорный 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текст направлен на организацию взаимодействия для достижения обще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1"/>
          <p:cNvSpPr/>
          <p:nvPr/>
        </p:nvSpPr>
        <p:spPr>
          <a:xfrm>
            <a:off x="324000" y="873000"/>
            <a:ext cx="8496000" cy="971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826920" y="404640"/>
            <a:ext cx="7632720" cy="38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Формат текста может быть определен следующим образ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Сплошные тек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Несплош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Множественные  тек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Смешанные тек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Составные тек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971640" y="2302920"/>
            <a:ext cx="7451640" cy="10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84360" y="503640"/>
            <a:ext cx="8064360" cy="51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остное восприятие и понимание текста, умение анализировать и интерпретировать текст возможно при опоре на следующие виды деяте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ознанное, творческое, выразительное чтение художественных произведений разных жан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сказ (подробный, краткий, с элементами комментария, с творческим заданием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ы на вопрос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ализ и интерпретация произве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ление план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арактеристика геро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исание отзы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исание сочинения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avkkuv avkkuv</cp:lastModifiedBy>
  <dcterms:modified xsi:type="dcterms:W3CDTF">2022-02-27T18:58:02Z</dcterms:modified>
  <cp:revision>116</cp:revision>
  <dc:subject/>
  <dc:title>Слайд 1</dc:title>
</cp:coreProperties>
</file>