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533520" y="763200"/>
            <a:ext cx="670248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6DD645-FC9E-409D-BB68-2D1F23EC03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D57966-D395-46DB-BAA4-0FE515930A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BD4CA7-4389-4274-9DDD-C9B069DD17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667C39-16A9-4FB3-A80B-41B0B02DEC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DD3927-A759-4904-AF0B-08BD32AB28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D57921-7C5C-4EFA-ACA7-06EAF4D814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A399B7-5A0D-4688-84DB-C0C733F3C5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2"/>
          <p:cNvSpPr/>
          <p:nvPr/>
        </p:nvSpPr>
        <p:spPr>
          <a:xfrm>
            <a:off x="764280" y="1484280"/>
            <a:ext cx="7306920" cy="19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О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ТАТЕЛЬСКОЙ ГРАМОТ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ПОДГОТОВКЕ К ГИ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 ВНЕУРОЧН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1087920" y="214200"/>
            <a:ext cx="698076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ниципальное бюджетное обще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редняя общеобразовательная школа №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вандыкского городского округа Оренбург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4"/>
          <p:cNvSpPr/>
          <p:nvPr/>
        </p:nvSpPr>
        <p:spPr>
          <a:xfrm>
            <a:off x="4390200" y="3857760"/>
            <a:ext cx="424512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Нестерова И.В., учи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шей квалификационно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1" descr="Описание исторического события — 1_page-0001.jpg"/>
          <p:cNvPicPr/>
          <p:nvPr/>
        </p:nvPicPr>
        <p:blipFill>
          <a:blip r:embed="rId1"/>
          <a:stretch/>
        </p:blipFill>
        <p:spPr>
          <a:xfrm>
            <a:off x="3708360" y="189000"/>
            <a:ext cx="4845240" cy="64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1" descr="Биография личности_page-0001.jpg"/>
          <p:cNvPicPr/>
          <p:nvPr/>
        </p:nvPicPr>
        <p:blipFill>
          <a:blip r:embed="rId1"/>
          <a:stretch/>
        </p:blipFill>
        <p:spPr>
          <a:xfrm>
            <a:off x="3419640" y="333360"/>
            <a:ext cx="542124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1" descr="Запомни эти факты_page-0001.jpg"/>
          <p:cNvPicPr/>
          <p:nvPr/>
        </p:nvPicPr>
        <p:blipFill>
          <a:blip r:embed="rId1"/>
          <a:stretch/>
        </p:blipFill>
        <p:spPr>
          <a:xfrm>
            <a:off x="3564000" y="0"/>
            <a:ext cx="508644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1" descr="Мое мнение_page-0001.jpg"/>
          <p:cNvPicPr/>
          <p:nvPr/>
        </p:nvPicPr>
        <p:blipFill>
          <a:blip r:embed="rId1"/>
          <a:stretch/>
        </p:blipFill>
        <p:spPr>
          <a:xfrm>
            <a:off x="3276720" y="333360"/>
            <a:ext cx="520524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1" descr="Решение проблемы_page-0001.jpg"/>
          <p:cNvPicPr/>
          <p:nvPr/>
        </p:nvPicPr>
        <p:blipFill>
          <a:blip r:embed="rId1"/>
          <a:stretch/>
        </p:blipFill>
        <p:spPr>
          <a:xfrm>
            <a:off x="2987640" y="0"/>
            <a:ext cx="5519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1" descr="Найти доказательства_page-0001.jpg"/>
          <p:cNvPicPr/>
          <p:nvPr/>
        </p:nvPicPr>
        <p:blipFill>
          <a:blip r:embed="rId1"/>
          <a:stretch/>
        </p:blipFill>
        <p:spPr>
          <a:xfrm>
            <a:off x="179280" y="198360"/>
            <a:ext cx="8785440" cy="646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1" descr="Причина и следствие_page-0001.jpg"/>
          <p:cNvPicPr/>
          <p:nvPr/>
        </p:nvPicPr>
        <p:blipFill>
          <a:blip r:embed="rId1"/>
          <a:stretch/>
        </p:blipFill>
        <p:spPr>
          <a:xfrm>
            <a:off x="250920" y="198360"/>
            <a:ext cx="8497800" cy="646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1" descr="описание персонажа_page-0001.jpg"/>
          <p:cNvPicPr/>
          <p:nvPr/>
        </p:nvPicPr>
        <p:blipFill>
          <a:blip r:embed="rId1"/>
          <a:stretch/>
        </p:blipFill>
        <p:spPr>
          <a:xfrm>
            <a:off x="250920" y="198360"/>
            <a:ext cx="8642160" cy="646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1"/>
          <p:cNvSpPr/>
          <p:nvPr/>
        </p:nvSpPr>
        <p:spPr>
          <a:xfrm>
            <a:off x="324000" y="873000"/>
            <a:ext cx="8496000" cy="971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142920" y="1844640"/>
            <a:ext cx="846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"/>
          <p:cNvSpPr/>
          <p:nvPr/>
        </p:nvSpPr>
        <p:spPr>
          <a:xfrm>
            <a:off x="250920" y="357120"/>
            <a:ext cx="889308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Читательская грамотность 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– 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пособность человека понимать и использовать тексты, размышлять о них и заниматься чтением для того, чтобы достигать своих целей, расширять свои знания и возможности, участвовать в социальной жизн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2"/>
          <p:cNvSpPr/>
          <p:nvPr/>
        </p:nvSpPr>
        <p:spPr>
          <a:xfrm>
            <a:off x="0" y="189000"/>
            <a:ext cx="9144000" cy="971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https://www.i-igrushki.ru/upload/iblock/850/850e67c9931b702d32a96bc8bb1fad68.jpg"/>
          <p:cNvPicPr/>
          <p:nvPr/>
        </p:nvPicPr>
        <p:blipFill>
          <a:blip r:embed="rId1"/>
          <a:stretch/>
        </p:blipFill>
        <p:spPr>
          <a:xfrm>
            <a:off x="1206360" y="3492360"/>
            <a:ext cx="6797880" cy="277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826920" y="512640"/>
            <a:ext cx="7920360" cy="53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611280" y="100080"/>
            <a:ext cx="8137440" cy="61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Читательская грамотность включает в себя следующие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читательские ум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Поиск и извлечение информации из тек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Понимание информации, сообщенной в тексте, ее интерпре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Размышление о содержании текстового сообщения и его оц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Размышление о форме текстового сообщения и ее оц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Осмысление и оценка информации (критически оценить качество и достоверность информации, обнаружение противоречий), применение полученной информации при решении широкого круга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Ориентация во множественных текстах ( интерпретация и обобщение информации из нескольких отличающихся источник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Умение ориентироваться в современном мире и справляться с новыми появившимися требованиями. Многие тексты связаны с оценкой использования информации в Интернете, в частности, как распознать достоверные сайты и онлайн документы; умение читать текст с гиперссылк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9349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934920" y="1593720"/>
            <a:ext cx="792000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3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7993080" cy="56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1" descr=""/>
          <p:cNvPicPr/>
          <p:nvPr/>
        </p:nvPicPr>
        <p:blipFill>
          <a:blip r:embed="rId1"/>
          <a:srcRect l="0" t="0" r="39826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"/>
          <p:cNvSpPr/>
          <p:nvPr/>
        </p:nvSpPr>
        <p:spPr>
          <a:xfrm>
            <a:off x="684360" y="1186920"/>
            <a:ext cx="7632720" cy="34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текстная 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- это задача мотивационного характера, в условии которой описана конкретная жизненная ситуация, коррелирующая с имеющимся социокультурным опытом учащихся (известное, данное); требованием (неизвестным) задачи является анализ, осмысление и объяснение этой ситуации или выбор способа действия в ней, а результатом решения задачи является встреча с проблемой и осознание её личностной значимости.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"/>
          <p:cNvSpPr/>
          <p:nvPr/>
        </p:nvSpPr>
        <p:spPr>
          <a:xfrm>
            <a:off x="611280" y="121320"/>
            <a:ext cx="792144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Описание 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– тип текста, информация которого относится к объектам и их пространственным свойств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Повествование 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– тип текста, информация которого относится к объектам и их временным свойств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Толкование 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– тип текста, который дает законченную характеристику понятия в сложном взаимодействии его эле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Рассуждение – 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тип текста, который описывает отношения между утверждениями</a:t>
            </a:r>
            <a:r>
              <a:rPr b="1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Инструкция (иногда называемая предписанием, приказом) – 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тип текста, который содержит указания к действию и отвечает на вопрос «что делать?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Переговорный 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текст направлен на организацию взаимодействия для достижения общей ц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AutoShape 1"/>
          <p:cNvSpPr/>
          <p:nvPr/>
        </p:nvSpPr>
        <p:spPr>
          <a:xfrm>
            <a:off x="324000" y="873000"/>
            <a:ext cx="8496000" cy="971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3"/>
          <p:cNvSpPr/>
          <p:nvPr/>
        </p:nvSpPr>
        <p:spPr>
          <a:xfrm>
            <a:off x="826920" y="404640"/>
            <a:ext cx="7632720" cy="38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Формат текста может быть определен следующим образ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Сплошные текс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Несплош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Множественные  текс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Смешанные текс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Составные текс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"/>
          <p:cNvSpPr/>
          <p:nvPr/>
        </p:nvSpPr>
        <p:spPr>
          <a:xfrm>
            <a:off x="971640" y="2302920"/>
            <a:ext cx="7451640" cy="10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84360" y="503640"/>
            <a:ext cx="8064360" cy="51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Целостное восприятие и понимание текста, умение анализировать и интерпретировать текст возможно при опоре на следующие виды деятель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сознанное, творческое, выразительное чтение художественных произведений разных жанр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сказ (подробный, краткий, с элементами комментария, с творческим заданием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тветы на вопрос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нализ и интерпретация произвед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авление план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характеристика геро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писание отзы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писание сочинения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7:21:00Z</dcterms:created>
  <dc:creator>Home</dc:creator>
  <dc:description/>
  <dc:language>en-US</dc:language>
  <cp:lastModifiedBy>avkkuv avkkuv</cp:lastModifiedBy>
  <dcterms:modified xsi:type="dcterms:W3CDTF">2022-02-27T18:58:02Z</dcterms:modified>
  <cp:revision>116</cp:revision>
  <dc:subject/>
  <dc:title>Слайд 1</dc:title>
</cp:coreProperties>
</file>